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4AD-E3AA-4CC7-8F07-24F0CCC0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5391-6F56-44B0-9ADC-3790FD7E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B1EE8-3077-4F12-99AD-44D7B7D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4B3A3-1943-4B52-B904-E634DD75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D9438-51CD-4264-83E8-B7DAAC2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0EB36-46BA-41EB-B375-40BB1C8E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9B551-6B4C-41C2-A378-A6DE9BE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7B642-A705-4017-BE2C-ACFF9015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9D61-4971-44C0-8D67-F1431B7F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65EB4-C47A-4D9C-B816-B5B88A30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43939-1E09-4094-8CDF-6D28669F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259-53FF-4E20-B1BF-755F2FBF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43F-BC80-49AE-A1FB-74AD8726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58C5-0A5F-4A34-A400-3CFFB0C8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8BD8-3C89-4E03-A0C9-04AD52E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B0C2-3F35-4835-9222-78441B4D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B1D9-A937-4DFF-9C46-ED04DDF0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CF9-ED05-4C10-AAAF-26FAC4BD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7C2F-E148-4DEA-8CD3-CE657F5F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2CAA-8222-48E4-9773-7EB51C1E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439-6709-4CBB-B52E-34DDBA16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F335-9073-4E7F-AC47-247353AE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4163-DFCE-4236-8FBF-6C682FCD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2D7D-39D9-4D71-BC0C-63CC1733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CADC-0399-4015-B0A4-A2EF0DA1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605A-A779-4417-8AA8-26ABF055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F6A6-6615-4A87-873C-91D6669C9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B2D5-1A77-48F3-B883-C60A45F4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4B79-0061-41A9-BBA7-24EA16A0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5D1BD-2AB6-42F9-9B0C-EB0D438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EDB5-695A-4A7F-B2AD-C57496FA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0EB-777F-496B-80B5-AEF706B9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D3AF-55D2-4362-92ED-2378F8C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4E95-1FF8-456A-8A85-5B40920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91A5-E13A-4275-9F39-CDDEEAA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91E3-866E-4F58-BD12-496945B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4AB4F-C995-435B-9739-ACB2A200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B430E-CCA8-4117-92A5-4E59FFB7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196C1-8415-40D1-91D3-41C21F9B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1938-908B-4CC5-9448-E9ED877A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9E3E-2D5F-40BB-9FA7-0714C541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4E697-05A0-433A-B203-E7C3BF5B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DD1-198D-4EFB-A460-0C23A2E1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D43C1-8E97-4E1E-A71B-699BE6D9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7B9E0-56D3-4E1F-A1E0-35ECD86E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08C7-4980-4F5F-8BF2-28CF350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60F3-CFA4-472D-B110-9643A9B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B331-8919-4831-819D-EA32AC3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7A99-B1E8-4F6B-AD92-FDBD7FC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6338-899E-4E28-8F07-32647955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56F9-7200-41F5-83C5-C8DD8B30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66BC3-2C05-419E-AC48-D5A92AFC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C38BC-C86C-4FCF-B3C5-3EE9BB05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ABA-281F-4498-A3A7-9B938732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D8614-5637-4E33-BAE4-B6B6695B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54752-13D4-4B46-BC91-FE5EA562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7456C-2B59-498A-AC03-DB1A5D28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4A05-D9F7-43A8-BD6D-AC4163A5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F70B6-5600-463A-8696-578FAE85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F4780-0AD6-4634-B9CB-1320637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521DE-A58C-44DD-9513-23032CEF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2F58-19C9-4776-99AF-9FCFD43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1559-0A2B-461E-9803-67BCF1CF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3FAA-0EA1-4EAA-82B8-77F7D778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DB2-5BD6-4CC4-8F49-E9A36603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821C0-C01B-4C44-BF83-A5A5B423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920C-C0AA-466E-B24F-2EB1E845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A179-8619-4D46-9D3D-9A72A86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073E-8151-4873-971C-F8EFD7C3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4A602-BFA8-496A-9E1B-25B9792B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B65D-A73F-4EB6-80D6-C6889D90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986B5-E485-4AFB-A958-CAE5DE8A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30240-6DC8-4916-B645-5B85F9A8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E3C5B-3D90-4457-A07E-A8A8FF0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CECD6-0572-458F-B4EB-3C90C8E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0D4-937D-47E4-98E6-E469D4B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A2998-8836-4225-A471-3CAA68C7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6B745-B15C-49B9-9E7D-3AFDA49F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0F0F-BC7D-4056-A298-FFC41DF2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9948-1FA1-44BD-84AE-15381B2B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162C-3EB8-4D5C-8643-D786C5BD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D5F4C-875F-46D6-941D-EEA579F7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9A3F-4B6E-4576-9844-F85ACE4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4773-FD3C-40E8-AC07-1EFBE119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93DC6-8A4F-4914-9F40-12391976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EAFB9-C0B5-4378-94D7-8584532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D12-5823-441F-AF8A-3AD844B2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8B3A0-9012-4FC0-A489-B72A712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D8CBF-EA71-49DA-BE04-CF79776E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B2EFF-2A83-49FC-A6EC-4FB7C8E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4461-ED08-4E7A-B824-859D72AA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01A8-E7AC-4F76-A60B-11199552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74774-A9F6-401A-8A9F-7339959B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1E69-B08A-4C28-B8F6-6C7C6F51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DB5E5-9A20-43A1-B7CA-DD3A959B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FE8B-86F7-4DB5-AE6A-B42450FA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97CCD-E7D0-42BA-8BB9-BA56D756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D28-DD0C-44AE-BD95-83A99D22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464CB-BAE0-478D-8082-3312DA5D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8BBF5-3F15-473E-AB6F-FD3FE20B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4E217-F1C9-4C78-8682-A80FA731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28C3A-D617-4686-A22A-8187C32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A5871-2076-4D3A-A893-47E635BC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EB8EB-5ED1-4AA2-9A31-B69888FD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9A001-BAA8-45D5-8DE4-1F724E70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A8BF7-7A1C-4377-9602-C9C31C50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83F6B-EC76-413B-B13F-FBB5D812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9603D-ACE8-417A-9102-ABD78B0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9174-5338-4F23-8CAC-F406EE66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80D1-06E9-4E61-B4AF-CAA2FF3C7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9F3-A237-4DEB-AF35-385B62CF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73B-2A5F-49CD-BA65-4789D3EB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8820-3659-4575-A261-A768DA58A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EAF2-D239-43F4-9879-82DFC7016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7EC8-4F8F-4D09-8237-CD63E720B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659-140B-4895-80DB-B1A41598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37EF-C045-4F0E-B6F4-87D77A9A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1.3: functions and their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Set builder nota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variable | mathematical description of the variabl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x&gt;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y| 5&lt;y&lt;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ind the domain of f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ry thi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main and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f(0) and f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x such that f(x)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4648320" y="2057400"/>
          <a:ext cx="3882960" cy="38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8829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648320" y="2057400"/>
          <a:ext cx="3959280" cy="3971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2057400"/>
                    <a:ext cx="39592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Your assignmen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2-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0-5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4-5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4-8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8-9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a function four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nge and domain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What is a function?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very input (x) has exactly one output (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mphasize that y is a function of x, the notation y=f(x) is ofte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y is called the 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x is called the in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Anatomy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20)=4 would rea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of 20 equal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g, and h are often used as names of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2514600"/>
            <a:ext cx="10670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38689"/>
              <a:gd name="adj5" fmla="val -66666"/>
              <a:gd name="adj6" fmla="val 17143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24280" y="308628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500"/>
              <a:gd name="adj5" fmla="val -143750"/>
              <a:gd name="adj6" fmla="val -16666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24764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1944"/>
              <a:gd name="adj5" fmla="val -43750"/>
              <a:gd name="adj6" fmla="val -15833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Domain and range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valid or meaningful inputs (x) is called the domain of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outputs (y) is the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dom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tated otherwise, the domain of a function f is the set of all real numbers that make sense for the function.   This is called the implied dom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ormal definition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ach element in the domain corresponds to one element in the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he vertical line tes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 possible vertical line intersects a graph at no more than one point, then the graph represents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se p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7200" y="3886200"/>
            <a:ext cx="6707160" cy="2143080"/>
            <a:chOff x="457200" y="3886200"/>
            <a:chExt cx="6707160" cy="2143080"/>
          </a:xfrm>
        </p:grpSpPr>
        <p:grpSp>
          <p:nvGrpSpPr>
            <p:cNvPr id="387" name=""/>
            <p:cNvGrpSpPr/>
            <p:nvPr/>
          </p:nvGrpSpPr>
          <p:grpSpPr>
            <a:xfrm>
              <a:off x="457200" y="3886200"/>
              <a:ext cx="4270320" cy="2066760"/>
              <a:chOff x="457200" y="3886200"/>
              <a:chExt cx="4270320" cy="2066760"/>
            </a:xfrm>
          </p:grpSpPr>
          <p:graphicFrame>
            <p:nvGraphicFramePr>
              <p:cNvPr id="388" name=""/>
              <p:cNvGraphicFramePr/>
              <p:nvPr/>
            </p:nvGraphicFramePr>
            <p:xfrm>
              <a:off x="457200" y="3962520"/>
              <a:ext cx="1984320" cy="1990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8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7200" y="3962520"/>
                        <a:ext cx="1984320" cy="199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0" name=""/>
              <p:cNvGraphicFramePr/>
              <p:nvPr/>
            </p:nvGraphicFramePr>
            <p:xfrm>
              <a:off x="2819520" y="3886200"/>
              <a:ext cx="1908000" cy="19144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9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819520" y="3886200"/>
                        <a:ext cx="1908000" cy="19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2" name=""/>
            <p:cNvGraphicFramePr/>
            <p:nvPr/>
          </p:nvGraphicFramePr>
          <p:xfrm>
            <a:off x="5029200" y="3886200"/>
            <a:ext cx="2135160" cy="21430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029200" y="3886200"/>
                      <a:ext cx="2135160" cy="21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Representations of func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: i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: tabl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ften not possible or appropriate to list all values, this type of table is often referred to as a partial numeric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matically: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: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: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Using these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: f(x)=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486400" y="3124080"/>
            <a:ext cx="30178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6:03:13Z</dcterms:created>
  <dc:creator>nuhs</dc:creator>
  <dc:description/>
  <dc:language>en-US</dc:language>
  <cp:lastModifiedBy>nuhs</cp:lastModifiedBy>
  <dcterms:modified xsi:type="dcterms:W3CDTF">2008-01-09T21:43:18Z</dcterms:modified>
  <cp:revision>7</cp:revision>
  <dc:subject/>
  <dc:title>1.3: functions and their representations</dc:title>
</cp:coreProperties>
</file>